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CB8-05E7-4388-AA67-8B5CF95C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418-6D12-4160-8378-942B51CC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02CB-E0D8-48DB-BDF4-CAD70FF7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B1C-E069-485A-A433-533ACF2E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948-D24A-44D9-AE0C-EACCCE0E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B24C-6B34-4A10-8FA8-0FA1C412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EB4-7AD9-4980-9078-EB6BFE89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EDD-F4FD-4B26-8AC1-04EAF518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35B-BBD3-4F78-9EE1-AD5D0D5E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73A-ECD6-4B9B-AFD8-87E2A988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3247-257C-45AC-9031-346CF9C2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8E5-F6A3-4EBD-82B6-3EAC378C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0946-05A9-439E-96E7-5BE6FD705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320" y="676440"/>
            <a:ext cx="2305080" cy="1527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90920" y="657360"/>
            <a:ext cx="2292120" cy="1539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100480" y="676440"/>
            <a:ext cx="2314800" cy="1436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38240" y="2570040"/>
            <a:ext cx="2257200" cy="1484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657520" y="2496960"/>
            <a:ext cx="2251080" cy="146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105520" y="2496960"/>
            <a:ext cx="2290680" cy="1384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08000" y="22320"/>
            <a:ext cx="5384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How many colours can you se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85880" y="4297320"/>
            <a:ext cx="483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mic Sans MS"/>
              </a:rPr>
              <a:t>Which colours can you see? Say them to a frien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3:19:57Z</dcterms:created>
  <dc:creator>Helen</dc:creator>
  <dc:description/>
  <dc:language>en-US</dc:language>
  <cp:lastModifiedBy>Helen</cp:lastModifiedBy>
  <dcterms:modified xsi:type="dcterms:W3CDTF">2010-05-22T13:20:53Z</dcterms:modified>
  <cp:revision>2</cp:revision>
  <dc:subject/>
  <dc:title>Slide 1</dc:title>
</cp:coreProperties>
</file>